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56.wmf" ContentType="image/x-wmf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9.jpeg" ContentType="image/jpeg"/>
  <Override PartName="/ppt/media/image12.png" ContentType="image/png"/>
  <Override PartName="/ppt/media/image23.jpeg" ContentType="image/jpeg"/>
  <Override PartName="/ppt/media/image1.jpeg" ContentType="image/jpeg"/>
  <Override PartName="/ppt/media/image35.jpeg" ContentType="image/jpeg"/>
  <Override PartName="/ppt/media/image41.jpeg" ContentType="image/jpeg"/>
  <Override PartName="/ppt/media/image14.jpeg" ContentType="image/jpeg"/>
  <Override PartName="/ppt/media/image15.jpeg" ContentType="image/jpeg"/>
  <Override PartName="/ppt/media/image21.jpeg" ContentType="image/jpeg"/>
  <Override PartName="/ppt/media/image24.jpeg" ContentType="image/jpeg"/>
  <Override PartName="/ppt/media/image16.jpeg" ContentType="image/jpeg"/>
  <Override PartName="/ppt/media/image60.jpeg" ContentType="image/jpeg"/>
  <Override PartName="/ppt/media/image37.jpeg" ContentType="image/jpeg"/>
  <Override PartName="/ppt/media/image61.jpeg" ContentType="image/jpeg"/>
  <Override PartName="/ppt/media/image4.jpeg" ContentType="image/jpeg"/>
  <Override PartName="/ppt/media/image8.wmf" ContentType="image/x-wmf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9.wmf" ContentType="image/x-wmf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18.jpeg" ContentType="image/jpeg"/>
  <Override PartName="/ppt/media/image62.jpeg" ContentType="image/jpeg"/>
  <Override PartName="/ppt/media/image5.jpeg" ContentType="image/jpeg"/>
  <Override PartName="/ppt/media/image2.jpeg" ContentType="image/jpeg"/>
  <Override PartName="/ppt/media/image36.jpeg" ContentType="image/jpeg"/>
  <Override PartName="/ppt/media/image17.jpeg" ContentType="image/jpeg"/>
  <Override PartName="/ppt/media/image3.png" ContentType="image/png"/>
  <Override PartName="/ppt/media/image25.jpeg" ContentType="image/jpeg"/>
  <Override PartName="/ppt/media/image26.jpeg" ContentType="image/jpeg"/>
  <Override PartName="/ppt/media/image29.jpeg" ContentType="image/jpeg"/>
  <Override PartName="/ppt/media/image52.jpeg" ContentType="image/jpeg"/>
  <Override PartName="/ppt/media/image10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20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3BE7-620B-4612-BD3B-0236D363F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F5E3-A1FE-4527-AA5E-2C6C448B2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284-5B33-47D1-B056-232DA70A1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D554-5196-4F97-B996-08F44A8A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D2B8-4629-4BA9-B803-1C971F61D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AB419-9A72-4FB8-AF5A-5536D596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00D43-6FED-42C5-8AC1-01465DA7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2CEC7-D612-41CA-813A-0C307D266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1CEA8-A964-4DDD-A05C-DDA7ACDD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DA14-1335-44A6-9193-B819EAD1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A50B-6C61-41CE-BB90-7DEE616B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E032-3E69-49EB-8CBA-3C41322E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3BD9A-787E-43EA-86A9-00145DFF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87189-A3BA-49D2-B989-80772F29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9E27-E451-4812-A469-2A1891531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1A97-28A9-46E1-B2A9-E7B2E2D2B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9225F-D817-4F65-A9DC-56342C19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7F8FE-0848-4529-8245-5FAFB7A49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91264-E9DC-4FD0-973B-BBEBD0505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1CC04-A241-452C-B441-2FC6320A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A8698-EDC1-4BDC-BA4D-586C6DCB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4D3980-7EB4-47E2-AAA9-EA2D5A2CE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9695-8825-449E-AB5D-B8C7CF5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29623-B13A-4AAF-821D-9884BA086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ED2BE-48ED-438B-AAC9-CCD49483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56541-1873-4D33-8041-5621C9D85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E4C6A-1B08-4C78-A6D8-BF9EDCCE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6A4405-4A06-47C4-A782-C4604FBE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78071B-6FE0-41D1-8F8D-5D8885FC3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B1FC8-A1AF-44B7-92F0-7A933E0EA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1E9A2F-8374-429E-BF11-C8349CF1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AA2B2-DA74-48DD-8B9D-74EAD2D6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56455-790C-4799-B2AB-C1285F37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8036-CBA2-40F2-8DBC-6AE709E9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A1F473-0F9D-4196-A81F-198AB6A92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994F6E-2901-4CAC-940B-E3CAFC4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AAE05C-1F98-4890-BB18-74DA4E533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BFB70-16B7-46CA-8FF0-0A50B4597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56D0D-26BC-4A20-8DC4-922CD5AA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02FB0-5A2E-47A6-ABFC-24BCFCB30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C863D-B3CF-44BE-AC69-6B436CF5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7238D-C868-4068-962D-8C6738E14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640D5-6845-45C4-83C4-4A3E14BBF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46AB-E871-463D-A13A-F0DE6B42D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2343-5E67-4E83-929C-23225660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4AE9-F67F-4859-B494-F5E0A0EA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90A2-FF1B-4A38-940A-031D02F82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7986-20F0-427A-98CD-22A49BB1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47239-F16F-4811-B2AC-9E12C0C262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ADE0E-E96A-4251-BFFD-729DAC6DF28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C06E-D07F-48A8-9F90-B23BFDB45BB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7882E-8F93-4A42-A77B-B01F2FBF6FA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Yvon_kremlin.jpg" TargetMode="External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habe.ru/lotsimg/40047s.jpg&amp;pageurl=http://www.habe.ru/%3Fmod%3Dhist%26act%3Dlot%26lotid%3D16780&amp;id=95185544&amp;iid=4&amp;imgwidth=119&amp;imgheight=120&amp;imgsize=45526&amp;images_links=b" TargetMode="External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2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wmf"/><Relationship Id="rId6" Type="http://schemas.openxmlformats.org/officeDocument/2006/relationships/image" Target="../media/image9.wmf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png"/><Relationship Id="rId10" Type="http://schemas.openxmlformats.org/officeDocument/2006/relationships/hyperlink" Target="http://go.mail.ru/frame.html?imgurl=http://torgi.ok-link.ru/cache/pics/500/19248_Akulij_zub.jpg&amp;pageurl=http://rynok.yottos.com/JewelsResult.aspx%3Fpage%3D55&amp;id=146295431&amp;iid=6&amp;imgwidth=1170&amp;imgheight=1310&amp;imgsize=123683&amp;images_links=b" TargetMode="External"/><Relationship Id="rId11" Type="http://schemas.openxmlformats.org/officeDocument/2006/relationships/image" Target="../media/image13.jpeg"/><Relationship Id="rId12" Type="http://schemas.openxmlformats.org/officeDocument/2006/relationships/hyperlink" Target="http://go.mail.ru/frame.html?imgurl=http://infosite.org.ua/wp-content/uploads/2008/05/pero.jpeg&amp;pageurl=http://xakep.lv/user/tresor/news/page/1496/&amp;id=141166318&amp;iid=6&amp;imgwidth=421&amp;imgheight=500&amp;imgsize=14964&amp;images_links=b" TargetMode="External"/><Relationship Id="rId13" Type="http://schemas.openxmlformats.org/officeDocument/2006/relationships/image" Target="../media/image14.jpeg"/><Relationship Id="rId14" Type="http://schemas.openxmlformats.org/officeDocument/2006/relationships/hyperlink" Target="http://go.mail.ru/frame.html?imgurl=http://www.respublika.info/images/602b-sm.jpg&amp;pageurl=http://www.spim.ru/info/page%5F306%5F16.html&amp;id=48172935&amp;iid=7&amp;imgwidth=150&amp;imgheight=211&amp;imgsize=22772&amp;images_links=b" TargetMode="External"/><Relationship Id="rId15" Type="http://schemas.openxmlformats.org/officeDocument/2006/relationships/image" Target="../media/image15.jpeg"/><Relationship Id="rId16" Type="http://schemas.openxmlformats.org/officeDocument/2006/relationships/hyperlink" Target="http://go.mail.ru/frame.html?imgurl=http://www.1000dosok.ru/s/06-01-53069.jpg&amp;pageurl=http://www.1000dosok.ru/doski.php%3Fkr%3D15%26r%3D15-01%26n%3D258806&amp;id=117058291&amp;iid=3&amp;imgwidth=80&amp;imgheight=67&amp;imgsize=61433&amp;images_links=b" TargetMode="External"/><Relationship Id="rId17" Type="http://schemas.openxmlformats.org/officeDocument/2006/relationships/image" Target="../media/image16.jpeg"/><Relationship Id="rId18" Type="http://schemas.openxmlformats.org/officeDocument/2006/relationships/hyperlink" Target="http://go.mail.ru/frame.html?imgurl=http://www.bonusnsk.ru/products_pictures/s024s.jpg&amp;pageurl=http://evr-azia.ru/cat/382&amp;id=21605995&amp;iid=0&amp;imgwidth=100&amp;imgheight=51&amp;imgsize=56880&amp;images_links=b" TargetMode="External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hyperlink" Target="http://go.mail.ru/frame.html?imgurl=http://www.timich.ru/_fr/1/4600981.jpg&amp;pageurl=http://globa.1nsk.ru/blog/50.html&amp;id=44162511&amp;iid=5&amp;imgwidth=500&amp;imgheight=256&amp;imgsize=87483&amp;images_links=b" TargetMode="External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bonistica.narod.ru/photogallery/97_rus/10-97-2.jpg&amp;pageurl=http://ka-r-dan.agava.ru/money/h%5Fp69/1997-10.htm&amp;id=9394333&amp;iid=6&amp;imgwidth=500&amp;imgheight=216&amp;imgsize=13156&amp;images_links=b" TargetMode="External"/><Relationship Id="rId2" Type="http://schemas.openxmlformats.org/officeDocument/2006/relationships/image" Target="../media/image62.jpeg"/><Relationship Id="rId3" Type="http://schemas.openxmlformats.org/officeDocument/2006/relationships/hyperlink" Target="http://go.mail.ru/frame.html?imgurl=http://nensberg.narod.ru/russia/img01/97r100-2.jpg&amp;pageurl=http://nensberg.narod.ru/russia/img01/97.html&amp;id=1367682&amp;iid=3&amp;imgwidth=500&amp;imgheight=216&amp;imgsize=54601&amp;images_links=b" TargetMode="External"/><Relationship Id="rId4" Type="http://schemas.openxmlformats.org/officeDocument/2006/relationships/image" Target="../media/image63.jpeg"/><Relationship Id="rId5" Type="http://schemas.openxmlformats.org/officeDocument/2006/relationships/image" Target="../media/image64.jpeg"/><Relationship Id="rId6" Type="http://schemas.openxmlformats.org/officeDocument/2006/relationships/image" Target="../media/image65.jpeg"/><Relationship Id="rId7" Type="http://schemas.openxmlformats.org/officeDocument/2006/relationships/image" Target="../media/image66.jpeg"/><Relationship Id="rId8" Type="http://schemas.openxmlformats.org/officeDocument/2006/relationships/image" Target="../media/image67.jpeg"/><Relationship Id="rId9" Type="http://schemas.openxmlformats.org/officeDocument/2006/relationships/image" Target="../media/image68.jpeg"/><Relationship Id="rId10" Type="http://schemas.openxmlformats.org/officeDocument/2006/relationships/image" Target="../media/image69.jpeg"/><Relationship Id="rId1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image" Target="../media/image71.jpeg"/><Relationship Id="rId3" Type="http://schemas.openxmlformats.org/officeDocument/2006/relationships/image" Target="../media/image72.jpeg"/><Relationship Id="rId4" Type="http://schemas.openxmlformats.org/officeDocument/2006/relationships/image" Target="../media/image73.jpe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umaine.edu/grazingguide/grazenortheast/images/animal2.jpg&amp;pageurl=http://uk.wikipedia.org/wiki/&#1050;&#1086;&#1088;&#1086;&#1074;&#1080;&amp;id=60195841&amp;iid=7&amp;imgwidth=258&amp;imgheight=181&amp;imgsize=104765&amp;images_links=b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www.santana.ru/cat.file/lisa/lisa1-1+.jpg&amp;pageurl=http://www.santana.ru/cat1/lisa1/lisa1-1.htm&amp;id=20401381&amp;iid=4&amp;imgwidth=800&amp;imgheight=443&amp;imgsize=310028&amp;images_links=b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go.mail.ru/frame.html?imgurl=http://design.ru-deluxe.ru/uploads/posts/2008-07/1214996563_rakushka.jpg&amp;pageurl=http://design.ru-deluxe.ru/page/206/&amp;id=55807633&amp;iid=0&amp;imgwidth=400&amp;imgheight=400&amp;imgsize=37933&amp;images_links=b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li.ru/go?www.beseder.co.il/http://www.beseder.co.il/wp-content/uploads/2005/06/1118756618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Calibri"/>
              </a:rPr>
              <a:t>ИСТОРИЯ  ДЕНЕЖНОЙ ЕДИНИЦЫ РОССИ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143000" y="5105520"/>
            <a:ext cx="6843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98989"/>
                </a:solidFill>
                <a:latin typeface="Calibri"/>
              </a:rPr>
              <a:t>Материал подготовила учитель начальных классов МОУ лицея №7 Воронина Марина Михайлов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5" descr="8-20040304145312"/>
          <p:cNvPicPr/>
          <p:nvPr/>
        </p:nvPicPr>
        <p:blipFill>
          <a:blip r:embed="rId1"/>
          <a:stretch/>
        </p:blipFill>
        <p:spPr>
          <a:xfrm>
            <a:off x="6356520" y="2381400"/>
            <a:ext cx="1904760" cy="19144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Донской"/>
          <p:cNvPicPr/>
          <p:nvPr/>
        </p:nvPicPr>
        <p:blipFill>
          <a:blip r:embed="rId2"/>
          <a:stretch/>
        </p:blipFill>
        <p:spPr>
          <a:xfrm>
            <a:off x="1214280" y="1785960"/>
            <a:ext cx="438948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Первые металлические деньги</a:t>
            </a:r>
            <a:br>
              <a:rPr sz="3200"/>
            </a:b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Первые круглые металлические деньги появились в Лидии, еще в 7 веке до нашей эры, на территории нынешней Турции, Из Лидии чеканка монет быстро распространилась в Грецию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Греки первыми стали выбивать на монетах изображения живых людей. Потом стали чеканить монеты Рим и позднее Западная Европа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В Киевской Руси первые чеканные монеты появились в 9-10 веках. В обращении одновременно находились златники  и сребрени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У монеты лицевая сторона называлась - аверс, оборотная - реверс, обрез - гур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На Руси серебряные монеты Киевского князя Владимира появились в Х веке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2" name="Рисунок 12" descr="Владимир серебрянник"/>
          <p:cNvPicPr/>
          <p:nvPr/>
        </p:nvPicPr>
        <p:blipFill>
          <a:blip r:embed="rId1"/>
          <a:stretch/>
        </p:blipFill>
        <p:spPr>
          <a:xfrm>
            <a:off x="1071720" y="2357280"/>
            <a:ext cx="7089480" cy="3429000"/>
          </a:xfrm>
          <a:prstGeom prst="rect">
            <a:avLst/>
          </a:prstGeom>
          <a:ln w="0">
            <a:noFill/>
          </a:ln>
        </p:spPr>
      </p:pic>
      <p:sp>
        <p:nvSpPr>
          <p:cNvPr id="213" name="TextBox 3"/>
          <p:cNvSpPr/>
          <p:nvPr/>
        </p:nvSpPr>
        <p:spPr>
          <a:xfrm>
            <a:off x="2585880" y="6143760"/>
            <a:ext cx="41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«Володимир на столе, а се его серебр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5"/>
          <p:cNvSpPr/>
          <p:nvPr/>
        </p:nvSpPr>
        <p:spPr>
          <a:xfrm>
            <a:off x="3866400" y="2071800"/>
            <a:ext cx="135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ребрян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8" descr="http://upload.wikimedia.org/wikipedia/commons/thumb/a/ac/Yvon_kremlin.jpg/275px-Yvon_kremlin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  <a:ea typeface="Arial"/>
              </a:rPr>
              <a:t>Безмонетное время на Руси</a:t>
            </a: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 Русь напали татаpo-монголы (1223 – 1480)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80520" y="609480"/>
            <a:ext cx="84582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2 – 13 веках русские монеты исчезли из обращения, так как Киевская Русь распалась на княжества, и чеканка единой монеты прекратилась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В 1380 г. Дмитрий Донской начал чеканить свою монету по образцу золотоордынского дирхема. Она называлась «деньга» (араб. «данник»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Деньгами стали служить гривны. Покупательная способность её была очень велика: за одну гривну давали 200 беличьих шкуро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9" name="Picture 5" descr="Новгородские рубли - слитки. XIV-XV века. Увеличить"/>
          <p:cNvPicPr/>
          <p:nvPr/>
        </p:nvPicPr>
        <p:blipFill>
          <a:blip r:embed="rId1"/>
          <a:stretch/>
        </p:blipFill>
        <p:spPr>
          <a:xfrm>
            <a:off x="1000080" y="4357800"/>
            <a:ext cx="727236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4" descr="http://numizmat.ru/netcat_files/Image/vis-5b.jpg"/>
          <p:cNvPicPr/>
          <p:nvPr/>
        </p:nvPicPr>
        <p:blipFill>
          <a:blip r:embed="rId1"/>
          <a:stretch/>
        </p:blipFill>
        <p:spPr>
          <a:xfrm>
            <a:off x="4643280" y="3932280"/>
            <a:ext cx="4500720" cy="292572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  <a:ea typeface="Arial"/>
              </a:rPr>
              <a:t>Монеты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857160"/>
            <a:ext cx="8229600" cy="52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Гривну рубили на части – отсюда название рубл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Когда товар стоил дешевле, рубль разрубали пополам – получались две полтины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6" descr="http://numizmat.ru/netcat_files/Image/image002_edited(5).jpg"/>
          <p:cNvPicPr/>
          <p:nvPr/>
        </p:nvPicPr>
        <p:blipFill>
          <a:blip r:embed="rId2"/>
          <a:stretch/>
        </p:blipFill>
        <p:spPr>
          <a:xfrm>
            <a:off x="2214720" y="1500120"/>
            <a:ext cx="292392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14200" y="333360"/>
            <a:ext cx="4857840" cy="616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Главной монетой на Руси была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копей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серебряная монета весом 0,7г с изображением всадника с копьем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олкопейки –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деньг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четверть-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полушка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i="1" lang="en-US" sz="2400" spc="-1" strike="noStrike">
                <a:solidFill>
                  <a:srgbClr val="0070c0"/>
                </a:solidFill>
                <a:latin typeface="Arial"/>
                <a:ea typeface="Arial"/>
              </a:rPr>
              <a:t>Эти мелкие деньги прятали за щ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Алтын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три копей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о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две копейки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Гривенни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десять копеек, а также полтина и рубль существовали только в качестве счетных единиц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3" descr="1-20040304145312"/>
          <p:cNvPicPr/>
          <p:nvPr/>
        </p:nvPicPr>
        <p:blipFill>
          <a:blip r:embed="rId1"/>
          <a:stretch/>
        </p:blipFill>
        <p:spPr>
          <a:xfrm>
            <a:off x="5429160" y="142920"/>
            <a:ext cx="2714760" cy="53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Грош – 2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Рисунок 15" descr="грош"/>
          <p:cNvPicPr/>
          <p:nvPr/>
        </p:nvPicPr>
        <p:blipFill>
          <a:blip r:embed="rId1"/>
          <a:stretch/>
        </p:blipFill>
        <p:spPr>
          <a:xfrm>
            <a:off x="1643040" y="1857240"/>
            <a:ext cx="576432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Алтын – 3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Рисунок 16" descr="алтын"/>
          <p:cNvPicPr/>
          <p:nvPr/>
        </p:nvPicPr>
        <p:blipFill>
          <a:blip r:embed="rId1"/>
          <a:stretch/>
        </p:blipFill>
        <p:spPr>
          <a:xfrm>
            <a:off x="1714680" y="1857240"/>
            <a:ext cx="566244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Деньга – ½ копейки или пол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Рисунок 17" descr="денежка"/>
          <p:cNvPicPr/>
          <p:nvPr/>
        </p:nvPicPr>
        <p:blipFill>
          <a:blip r:embed="rId1"/>
          <a:stretch/>
        </p:blipFill>
        <p:spPr>
          <a:xfrm>
            <a:off x="1214280" y="2000160"/>
            <a:ext cx="6743880" cy="34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Полушка – ¼ копей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Рисунок 19" descr="полушка"/>
          <p:cNvPicPr/>
          <p:nvPr/>
        </p:nvPicPr>
        <p:blipFill>
          <a:blip r:embed="rId1"/>
          <a:stretch/>
        </p:blipFill>
        <p:spPr>
          <a:xfrm>
            <a:off x="1428840" y="1785960"/>
            <a:ext cx="622116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Таблица 3" descr=""/>
          <p:cNvPicPr/>
          <p:nvPr/>
        </p:nvPicPr>
        <p:blipFill>
          <a:blip r:embed="rId1"/>
          <a:stretch/>
        </p:blipFill>
        <p:spPr>
          <a:xfrm>
            <a:off x="500040" y="712800"/>
            <a:ext cx="835812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2" descr="http://im4-tub.mail.ru/i?id=95185544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43240" y="428760"/>
            <a:ext cx="3214800" cy="321444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3757680" cy="5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Цены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XVII 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век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4114800" cy="469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Курица стоила копейк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пуд масла- 60 копее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нок – рубль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оз огурцов – копейка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одну копейку в день получал за свою работу плотник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за 3 копейки можно было купить крестьянскую изб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2" descr="http://numizmat.ru/netcat_files/Image/image002(87).jpg"/>
          <p:cNvPicPr/>
          <p:nvPr/>
        </p:nvPicPr>
        <p:blipFill>
          <a:blip r:embed="rId3"/>
          <a:stretch/>
        </p:blipFill>
        <p:spPr>
          <a:xfrm>
            <a:off x="6630840" y="3571920"/>
            <a:ext cx="2513160" cy="2500200"/>
          </a:xfrm>
          <a:prstGeom prst="rect">
            <a:avLst/>
          </a:prstGeom>
          <a:ln w="0">
            <a:noFill/>
          </a:ln>
        </p:spPr>
      </p:pic>
      <p:sp>
        <p:nvSpPr>
          <p:cNvPr id="238" name="TextBox 7"/>
          <p:cNvSpPr/>
          <p:nvPr/>
        </p:nvSpPr>
        <p:spPr>
          <a:xfrm>
            <a:off x="6075720" y="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Гривенник = 10 ко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8"/>
          <p:cNvSpPr/>
          <p:nvPr/>
        </p:nvSpPr>
        <p:spPr>
          <a:xfrm>
            <a:off x="8161200" y="328608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пей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8"/>
          <p:cNvSpPr/>
          <p:nvPr/>
        </p:nvSpPr>
        <p:spPr>
          <a:xfrm>
            <a:off x="0" y="5103720"/>
            <a:ext cx="6215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Для мелких покупок использовались медные деньги- куны, пироги, полпироги и полполпироги. Поскольку такие монеты никто не складывал в кубышку, мы не знаем, как они выглядел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f497d"/>
                </a:solidFill>
                <a:latin typeface="Arial"/>
                <a:ea typeface="Arial"/>
              </a:rPr>
              <a:t>1 рубль = 100 копеек или 200 денег или 400 полушек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Реформы Петра </a:t>
            </a: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I</a:t>
            </a: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 Петр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ачался выпуск золотой монеты. В 18 веке распространённой золотой монетой стал червонец (3 рубля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3" name="Picture 4" descr="1714"/>
          <p:cNvPicPr/>
          <p:nvPr/>
        </p:nvPicPr>
        <p:blipFill>
          <a:blip r:embed="rId1"/>
          <a:stretch/>
        </p:blipFill>
        <p:spPr>
          <a:xfrm>
            <a:off x="1500120" y="1928880"/>
            <a:ext cx="6858000" cy="3352680"/>
          </a:xfrm>
          <a:prstGeom prst="rect">
            <a:avLst/>
          </a:prstGeom>
          <a:ln w="0">
            <a:noFill/>
          </a:ln>
        </p:spPr>
      </p:pic>
      <p:sp>
        <p:nvSpPr>
          <p:cNvPr id="244" name="TextBox 4"/>
          <p:cNvSpPr/>
          <p:nvPr/>
        </p:nvSpPr>
        <p:spPr>
          <a:xfrm>
            <a:off x="214200" y="5572080"/>
            <a:ext cx="878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Начали выпускать </a:t>
            </a:r>
            <a:r>
              <a:rPr b="0" i="1" lang="ru-RU" sz="1800" spc="-1" strike="noStrike" u="sng">
                <a:solidFill>
                  <a:srgbClr val="1f497d"/>
                </a:solidFill>
                <a:uFillTx/>
                <a:latin typeface="Calibri"/>
              </a:rPr>
              <a:t>медные</a:t>
            </a:r>
            <a:r>
              <a:rPr b="0" i="1" lang="ru-RU" sz="1800" spc="-1" strike="noStrike">
                <a:solidFill>
                  <a:srgbClr val="1f497d"/>
                </a:solidFill>
                <a:latin typeface="Calibri"/>
              </a:rPr>
              <a:t> деньги, полушки, полуполушки, затем в 1701 году - появилась полтина, полуполтина, гривен и пятачок, а в 1704г- серебряный рубль и медная копей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85520" y="356760"/>
            <a:ext cx="749124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66"/>
                </a:solidFill>
                <a:latin typeface="Calibri"/>
              </a:rPr>
              <a:t>Интересный фак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Picture 448" descr="get_photo_py(12)"/>
          <p:cNvPicPr/>
          <p:nvPr/>
        </p:nvPicPr>
        <p:blipFill>
          <a:blip r:embed="rId1"/>
          <a:stretch/>
        </p:blipFill>
        <p:spPr>
          <a:xfrm>
            <a:off x="6858000" y="214200"/>
            <a:ext cx="2087640" cy="208764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49" descr="get_photo_py(2)"/>
          <p:cNvPicPr/>
          <p:nvPr/>
        </p:nvPicPr>
        <p:blipFill>
          <a:blip r:embed="rId2"/>
          <a:stretch/>
        </p:blipFill>
        <p:spPr>
          <a:xfrm>
            <a:off x="6858000" y="2571840"/>
            <a:ext cx="2160720" cy="2160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85840" y="1071720"/>
            <a:ext cx="5214960" cy="20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Михайло Ломоносов получал во время учебы полторы копейки в день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1748 г. Михайлу Ломоносову была выплачена государственная премия в размере 2 тыс. рубле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9" name="Picture 4" descr="Иоанн Антонович, Рубль 1741, СПБ"/>
          <p:cNvPicPr/>
          <p:nvPr/>
        </p:nvPicPr>
        <p:blipFill>
          <a:blip r:embed="rId3"/>
          <a:stretch/>
        </p:blipFill>
        <p:spPr>
          <a:xfrm>
            <a:off x="142920" y="4819680"/>
            <a:ext cx="4000320" cy="20383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7" descr="1161472704_52"/>
          <p:cNvPicPr/>
          <p:nvPr/>
        </p:nvPicPr>
        <p:blipFill>
          <a:blip r:embed="rId4"/>
          <a:stretch/>
        </p:blipFill>
        <p:spPr>
          <a:xfrm>
            <a:off x="4572000" y="4714920"/>
            <a:ext cx="4386240" cy="2336760"/>
          </a:xfrm>
          <a:prstGeom prst="rect">
            <a:avLst/>
          </a:prstGeom>
          <a:ln w="0">
            <a:noFill/>
          </a:ln>
        </p:spPr>
      </p:pic>
      <p:sp>
        <p:nvSpPr>
          <p:cNvPr id="251" name="TextBox 7"/>
          <p:cNvSpPr/>
          <p:nvPr/>
        </p:nvSpPr>
        <p:spPr>
          <a:xfrm>
            <a:off x="285840" y="314316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Правда, бумажных денег в России тогда еще не было, а серебряных и, тем более, золотых монет не хватало. Пришлось светилу науки российской везти подарочек - 3,5 т медных монет - на десятке подв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57160" y="-36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28400" y="856800"/>
            <a:ext cx="5500440" cy="200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Бумажные деньги были изобретены в Китае в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VIII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 веке. А в России бумажные деньги появились в 1769 г при Екатерине </a:t>
            </a:r>
            <a:r>
              <a:rPr b="0" i="1" lang="en-US" sz="2200" spc="-1" strike="noStrike">
                <a:solidFill>
                  <a:srgbClr val="1f497d"/>
                </a:solidFill>
                <a:latin typeface="Arial"/>
                <a:ea typeface="Arial"/>
              </a:rPr>
              <a:t>II. </a:t>
            </a:r>
            <a:r>
              <a:rPr b="0" i="1" lang="ru-RU" sz="2200" spc="-1" strike="noStrike">
                <a:solidFill>
                  <a:srgbClr val="1f497d"/>
                </a:solidFill>
                <a:latin typeface="Arial"/>
                <a:ea typeface="Arial"/>
              </a:rPr>
              <a:t>Их название «ассигнации» происходит от латинского «назначать, вводить в обращение»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4" name="Picture 5" descr="!0 екат"/>
          <p:cNvPicPr/>
          <p:nvPr/>
        </p:nvPicPr>
        <p:blipFill>
          <a:blip r:embed="rId1"/>
          <a:stretch/>
        </p:blipFill>
        <p:spPr>
          <a:xfrm>
            <a:off x="6097680" y="1571760"/>
            <a:ext cx="3046320" cy="528624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6" descr="1892 год"/>
          <p:cNvPicPr/>
          <p:nvPr/>
        </p:nvPicPr>
        <p:blipFill>
          <a:blip r:embed="rId2"/>
          <a:stretch/>
        </p:blipFill>
        <p:spPr>
          <a:xfrm>
            <a:off x="0" y="2928960"/>
            <a:ext cx="61912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5" descr="Екатерина"/>
          <p:cNvPicPr/>
          <p:nvPr/>
        </p:nvPicPr>
        <p:blipFill>
          <a:blip r:embed="rId1"/>
          <a:srcRect l="0" t="0" r="23371" b="0"/>
          <a:stretch/>
        </p:blipFill>
        <p:spPr>
          <a:xfrm>
            <a:off x="1357200" y="0"/>
            <a:ext cx="7000920" cy="41846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4"/>
          <p:cNvSpPr/>
          <p:nvPr/>
        </p:nvSpPr>
        <p:spPr>
          <a:xfrm>
            <a:off x="0" y="5000760"/>
            <a:ext cx="900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1f497d"/>
                </a:solidFill>
                <a:latin typeface="Arial"/>
                <a:ea typeface="Arial"/>
              </a:rPr>
              <a:t>Самые первые российские ассигнации хозяйственная Екатерина приказала изготовить из старых дворцовых скатертей и салфеток, которые таким необычным образом обрели вторую жизнь в новом благородном ви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862800" y="41432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«Катень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Александр"/>
          <p:cNvPicPr/>
          <p:nvPr/>
        </p:nvPicPr>
        <p:blipFill>
          <a:blip r:embed="rId1"/>
          <a:stretch/>
        </p:blipFill>
        <p:spPr>
          <a:xfrm>
            <a:off x="4357800" y="2928960"/>
            <a:ext cx="4681440" cy="282744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Донской"/>
          <p:cNvPicPr/>
          <p:nvPr/>
        </p:nvPicPr>
        <p:blipFill>
          <a:blip r:embed="rId2"/>
          <a:stretch/>
        </p:blipFill>
        <p:spPr>
          <a:xfrm>
            <a:off x="4643280" y="214200"/>
            <a:ext cx="4389480" cy="249732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6" descr="Петр 1"/>
          <p:cNvPicPr/>
          <p:nvPr/>
        </p:nvPicPr>
        <p:blipFill>
          <a:blip r:embed="rId3"/>
          <a:stretch/>
        </p:blipFill>
        <p:spPr>
          <a:xfrm>
            <a:off x="0" y="142920"/>
            <a:ext cx="4608360" cy="2708280"/>
          </a:xfrm>
          <a:prstGeom prst="rect">
            <a:avLst/>
          </a:prstGeom>
          <a:ln w="0">
            <a:noFill/>
          </a:ln>
        </p:spPr>
      </p:pic>
      <p:sp>
        <p:nvSpPr>
          <p:cNvPr id="262" name="TextBox 7"/>
          <p:cNvSpPr/>
          <p:nvPr/>
        </p:nvSpPr>
        <p:spPr>
          <a:xfrm>
            <a:off x="428760" y="4071960"/>
            <a:ext cx="3786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XIX век</a:t>
            </a:r>
            <a:br>
              <a:rPr sz="1800"/>
            </a:br>
            <a:r>
              <a:rPr b="0" i="1" lang="en-US" sz="1800" spc="-1" strike="noStrike">
                <a:solidFill>
                  <a:srgbClr val="1f497d"/>
                </a:solidFill>
                <a:latin typeface="Arial"/>
                <a:ea typeface="Arial"/>
              </a:rPr>
              <a:t>Земский врач получал 10-15 рублей в месяц, шкура медведя стоила 1,5-2 рубл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0" y="533160"/>
            <a:ext cx="8858160" cy="15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142920" y="357120"/>
            <a:ext cx="4286160" cy="557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6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4286160" y="142920"/>
            <a:ext cx="5086440" cy="63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3505320" y="2843280"/>
            <a:ext cx="5638680" cy="401472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42920" y="-142920"/>
            <a:ext cx="6629400" cy="34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Picture 4" descr="История русских денег - коллекция купюр разных лет!"/>
          <p:cNvPicPr/>
          <p:nvPr/>
        </p:nvPicPr>
        <p:blipFill>
          <a:blip r:embed="rId1"/>
          <a:stretch/>
        </p:blipFill>
        <p:spPr>
          <a:xfrm>
            <a:off x="0" y="0"/>
            <a:ext cx="8305920" cy="4070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5" descr="История русских денег - коллекция купюр разных лет!"/>
          <p:cNvPicPr/>
          <p:nvPr/>
        </p:nvPicPr>
        <p:blipFill>
          <a:blip r:embed="rId2"/>
          <a:stretch/>
        </p:blipFill>
        <p:spPr>
          <a:xfrm>
            <a:off x="1905120" y="3429000"/>
            <a:ext cx="723888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47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1" name="Picture 4" descr="1r1947"/>
          <p:cNvPicPr/>
          <p:nvPr/>
        </p:nvPicPr>
        <p:blipFill>
          <a:blip r:embed="rId1"/>
          <a:stretch/>
        </p:blipFill>
        <p:spPr>
          <a:xfrm>
            <a:off x="1219320" y="1523880"/>
            <a:ext cx="3141720" cy="4724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2" name="Object 5"/>
          <p:cNvGraphicFramePr/>
          <p:nvPr/>
        </p:nvGraphicFramePr>
        <p:xfrm>
          <a:off x="5442120" y="1600200"/>
          <a:ext cx="2863800" cy="47242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7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42120" y="1600200"/>
                    <a:ext cx="28638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Выберите среди различных картинок предметы, которые в старину были нужны каждому челове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Рисунок 1" descr="ракушка"/>
          <p:cNvPicPr/>
          <p:nvPr/>
        </p:nvPicPr>
        <p:blipFill>
          <a:blip r:embed="rId1"/>
          <a:stretch/>
        </p:blipFill>
        <p:spPr>
          <a:xfrm>
            <a:off x="5000760" y="1785960"/>
            <a:ext cx="2492280" cy="164304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2" descr="ромашки"/>
          <p:cNvPicPr/>
          <p:nvPr/>
        </p:nvPicPr>
        <p:blipFill>
          <a:blip r:embed="rId2"/>
          <a:stretch/>
        </p:blipFill>
        <p:spPr>
          <a:xfrm>
            <a:off x="357120" y="1785960"/>
            <a:ext cx="2095560" cy="157176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5" descr="лиса"/>
          <p:cNvPicPr/>
          <p:nvPr/>
        </p:nvPicPr>
        <p:blipFill>
          <a:blip r:embed="rId3"/>
          <a:stretch/>
        </p:blipFill>
        <p:spPr>
          <a:xfrm>
            <a:off x="285840" y="3429000"/>
            <a:ext cx="2355840" cy="155268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6" descr="листья"/>
          <p:cNvPicPr/>
          <p:nvPr/>
        </p:nvPicPr>
        <p:blipFill>
          <a:blip r:embed="rId4"/>
          <a:stretch/>
        </p:blipFill>
        <p:spPr>
          <a:xfrm>
            <a:off x="2786040" y="3429000"/>
            <a:ext cx="2165400" cy="14288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7" descr="j0215508"/>
          <p:cNvPicPr/>
          <p:nvPr/>
        </p:nvPicPr>
        <p:blipFill>
          <a:blip r:embed="rId5"/>
          <a:stretch/>
        </p:blipFill>
        <p:spPr>
          <a:xfrm>
            <a:off x="2928960" y="5572080"/>
            <a:ext cx="1173240" cy="795240"/>
          </a:xfrm>
          <a:prstGeom prst="rect">
            <a:avLst/>
          </a:prstGeom>
          <a:ln w="0">
            <a:noFill/>
          </a:ln>
        </p:spPr>
      </p:pic>
      <p:pic>
        <p:nvPicPr>
          <p:cNvPr id="175" name="Рисунок 8" descr="j0215520"/>
          <p:cNvPicPr/>
          <p:nvPr/>
        </p:nvPicPr>
        <p:blipFill>
          <a:blip r:embed="rId6"/>
          <a:stretch/>
        </p:blipFill>
        <p:spPr>
          <a:xfrm>
            <a:off x="1428840" y="5429160"/>
            <a:ext cx="1471680" cy="1000080"/>
          </a:xfrm>
          <a:prstGeom prst="rect">
            <a:avLst/>
          </a:prstGeom>
          <a:ln w="0">
            <a:noFill/>
          </a:ln>
        </p:spPr>
      </p:pic>
      <p:pic>
        <p:nvPicPr>
          <p:cNvPr id="176" name="Рисунок 9" descr="2велосипед"/>
          <p:cNvPicPr/>
          <p:nvPr/>
        </p:nvPicPr>
        <p:blipFill>
          <a:blip r:embed="rId7"/>
          <a:stretch/>
        </p:blipFill>
        <p:spPr>
          <a:xfrm>
            <a:off x="5072040" y="3500280"/>
            <a:ext cx="2000160" cy="134172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11" descr="овца"/>
          <p:cNvPicPr/>
          <p:nvPr/>
        </p:nvPicPr>
        <p:blipFill>
          <a:blip r:embed="rId8"/>
          <a:stretch/>
        </p:blipFill>
        <p:spPr>
          <a:xfrm>
            <a:off x="2500200" y="1785960"/>
            <a:ext cx="2428920" cy="16304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5" descr="Соль"/>
          <p:cNvPicPr/>
          <p:nvPr/>
        </p:nvPicPr>
        <p:blipFill>
          <a:blip r:embed="rId9"/>
          <a:srcRect l="0" t="15875" r="0" b="0"/>
          <a:stretch/>
        </p:blipFill>
        <p:spPr>
          <a:xfrm>
            <a:off x="7500960" y="4929120"/>
            <a:ext cx="1428840" cy="175284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pic>
        <p:nvPicPr>
          <p:cNvPr id="179" name="Picture 14" descr="http://im6-tub.mail.ru/i?id=146295431&amp;tov=6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142920" y="5143680"/>
            <a:ext cx="1276200" cy="14284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8" descr="http://im6-tub.mail.ru/i?id=141166318&amp;tov=6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500960" y="1785960"/>
            <a:ext cx="1500120" cy="17780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0" descr="http://im7-tub.mail.ru/i?id=48172935&amp;tov=7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143240" y="5143680"/>
            <a:ext cx="1095480" cy="1538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2" descr="http://im3-tub.mail.ru/i?id=117058291&amp;tov=3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7358040" y="3571920"/>
            <a:ext cx="1614600" cy="135720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4" descr="http://im0-tub.mail.ru/i?id=21605995&amp;tov=0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5143680" y="5286240"/>
            <a:ext cx="2269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6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5" name="Picture 4" descr="90edcfa61eaa2485ab0b868749ecab2a_full"/>
          <p:cNvPicPr/>
          <p:nvPr/>
        </p:nvPicPr>
        <p:blipFill>
          <a:blip r:embed="rId1"/>
          <a:stretch/>
        </p:blipFill>
        <p:spPr>
          <a:xfrm>
            <a:off x="2357280" y="1785960"/>
            <a:ext cx="3886200" cy="19810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25_rub_1961_a"/>
          <p:cNvPicPr/>
          <p:nvPr/>
        </p:nvPicPr>
        <p:blipFill>
          <a:blip r:embed="rId2"/>
          <a:stretch/>
        </p:blipFill>
        <p:spPr>
          <a:xfrm>
            <a:off x="4952880" y="4114800"/>
            <a:ext cx="3810240" cy="19144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6" descr="10r1961"/>
          <p:cNvPicPr/>
          <p:nvPr/>
        </p:nvPicPr>
        <p:blipFill>
          <a:blip r:embed="rId3"/>
          <a:stretch/>
        </p:blipFill>
        <p:spPr>
          <a:xfrm>
            <a:off x="685800" y="4114800"/>
            <a:ext cx="3809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Банкноты 1991 год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Picture 4" descr="sovd2"/>
          <p:cNvPicPr/>
          <p:nvPr/>
        </p:nvPicPr>
        <p:blipFill>
          <a:blip r:embed="rId1"/>
          <a:stretch/>
        </p:blipFill>
        <p:spPr>
          <a:xfrm>
            <a:off x="357120" y="1500120"/>
            <a:ext cx="5105520" cy="2314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6" descr="http://im5-tub.mail.ru/i?id=44162511&amp;tov=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7720" y="3929040"/>
            <a:ext cx="5286240" cy="26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Современные деньги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Picture 6" descr="http://im6-tub.mail.ru/i?id=9394333&amp;tov=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572000" y="3214800"/>
            <a:ext cx="5154480" cy="2214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0" descr="http://im3-tub.mail.ru/i?id=1367682&amp;tov=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071960" y="857160"/>
            <a:ext cx="5487840" cy="2357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3" descr="C:\D&amp;S\ЮРА\Мои документы\500 рублей.tif"/>
          <p:cNvPicPr/>
          <p:nvPr/>
        </p:nvPicPr>
        <p:blipFill>
          <a:blip r:embed="rId5"/>
          <a:stretch/>
        </p:blipFill>
        <p:spPr>
          <a:xfrm>
            <a:off x="-142920" y="3071880"/>
            <a:ext cx="5072040" cy="220824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4" descr="C:\D&amp;S\ЮРА\Мои документы\1000.tif"/>
          <p:cNvPicPr/>
          <p:nvPr/>
        </p:nvPicPr>
        <p:blipFill>
          <a:blip r:embed="rId6"/>
          <a:stretch/>
        </p:blipFill>
        <p:spPr>
          <a:xfrm>
            <a:off x="0" y="857160"/>
            <a:ext cx="4857840" cy="222264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16" descr="http://im2-tub.mail.ru/i?id=75490814&amp;tov=2"/>
          <p:cNvPicPr/>
          <p:nvPr/>
        </p:nvPicPr>
        <p:blipFill>
          <a:blip r:embed="rId7"/>
          <a:stretch/>
        </p:blipFill>
        <p:spPr>
          <a:xfrm>
            <a:off x="1357200" y="5286240"/>
            <a:ext cx="1428840" cy="142884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8" descr="http://im3-tub.mail.ru/i?id=96075366&amp;tov=3"/>
          <p:cNvPicPr/>
          <p:nvPr/>
        </p:nvPicPr>
        <p:blipFill>
          <a:blip r:embed="rId8"/>
          <a:stretch/>
        </p:blipFill>
        <p:spPr>
          <a:xfrm>
            <a:off x="3071880" y="521496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20" descr="http://im3-tub.mail.ru/i?id=83119809&amp;tov=3"/>
          <p:cNvPicPr/>
          <p:nvPr/>
        </p:nvPicPr>
        <p:blipFill>
          <a:blip r:embed="rId9"/>
          <a:stretch/>
        </p:blipFill>
        <p:spPr>
          <a:xfrm>
            <a:off x="4714920" y="5072040"/>
            <a:ext cx="1571760" cy="157176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22" descr="http://im4-tub.mail.ru/i?id=58179461&amp;tov=4"/>
          <p:cNvPicPr/>
          <p:nvPr/>
        </p:nvPicPr>
        <p:blipFill>
          <a:blip r:embed="rId10"/>
          <a:stretch/>
        </p:blipFill>
        <p:spPr>
          <a:xfrm>
            <a:off x="6500880" y="500076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5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8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Валюта разных стра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428760" y="1143000"/>
          <a:ext cx="8229600" cy="54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ра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енежная един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Столиц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краи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рив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е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Беларусь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уб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Минск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шингт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17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Австрия, Бельгия, Германия, Греция, Ирландия, Италия, Испания, Кипр, Люксембург, Мальта, Нидерланды, Португалия, Словения, Финляндия, Франция.</a:t>
                      </a:r>
                      <a:br>
                        <a:rPr sz="1400"/>
                      </a:b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ликобрита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унт стерлинг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Лондон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алийский долла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идне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встр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евр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ен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Япо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йе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и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ольша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лоты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арша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Китай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юан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114480"/>
                          <a:tab algn="l" pos="800280"/>
                          <a:tab algn="l" pos="1828800"/>
                          <a:tab algn="l" pos="2171880"/>
                          <a:tab algn="l" pos="240048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ек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7" descr="doll1"/>
          <p:cNvPicPr/>
          <p:nvPr/>
        </p:nvPicPr>
        <p:blipFill>
          <a:blip r:embed="rId1"/>
          <a:stretch/>
        </p:blipFill>
        <p:spPr>
          <a:xfrm>
            <a:off x="0" y="142920"/>
            <a:ext cx="5370480" cy="4530600"/>
          </a:xfrm>
          <a:prstGeom prst="rect">
            <a:avLst/>
          </a:prstGeom>
          <a:ln w="0">
            <a:noFill/>
          </a:ln>
        </p:spPr>
      </p:pic>
      <p:sp>
        <p:nvSpPr>
          <p:cNvPr id="293" name="TextBox 4"/>
          <p:cNvSpPr/>
          <p:nvPr/>
        </p:nvSpPr>
        <p:spPr>
          <a:xfrm>
            <a:off x="2000160" y="4643280"/>
            <a:ext cx="10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олла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eu005-1"/>
          <p:cNvPicPr/>
          <p:nvPr/>
        </p:nvPicPr>
        <p:blipFill>
          <a:blip r:embed="rId2"/>
          <a:stretch/>
        </p:blipFill>
        <p:spPr>
          <a:xfrm>
            <a:off x="4792680" y="214200"/>
            <a:ext cx="4351320" cy="22240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6"/>
          <p:cNvSpPr/>
          <p:nvPr/>
        </p:nvSpPr>
        <p:spPr>
          <a:xfrm>
            <a:off x="6934320" y="2714760"/>
            <a:ext cx="7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вр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7" descr="chin020-1"/>
          <p:cNvPicPr/>
          <p:nvPr/>
        </p:nvPicPr>
        <p:blipFill>
          <a:blip r:embed="rId3"/>
          <a:stretch/>
        </p:blipFill>
        <p:spPr>
          <a:xfrm>
            <a:off x="5038560" y="3357720"/>
            <a:ext cx="4105440" cy="1928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8"/>
          <p:cNvSpPr/>
          <p:nvPr/>
        </p:nvSpPr>
        <p:spPr>
          <a:xfrm>
            <a:off x="7148160" y="5357880"/>
            <a:ext cx="8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Юан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8" descr="jap00500-2"/>
          <p:cNvPicPr/>
          <p:nvPr/>
        </p:nvPicPr>
        <p:blipFill>
          <a:blip r:embed="rId4"/>
          <a:stretch/>
        </p:blipFill>
        <p:spPr>
          <a:xfrm>
            <a:off x="214200" y="4956120"/>
            <a:ext cx="4286520" cy="190188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0"/>
          <p:cNvSpPr/>
          <p:nvPr/>
        </p:nvSpPr>
        <p:spPr>
          <a:xfrm>
            <a:off x="4577760" y="6488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Йе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2" descr="http://im3-tub.mail.ru/i?id=135751882&amp;tov=3"/>
          <p:cNvPicPr/>
          <p:nvPr/>
        </p:nvPicPr>
        <p:blipFill>
          <a:blip r:embed="rId1"/>
          <a:stretch/>
        </p:blipFill>
        <p:spPr>
          <a:xfrm>
            <a:off x="2714760" y="4071960"/>
            <a:ext cx="5572080" cy="2786040"/>
          </a:xfrm>
          <a:prstGeom prst="rect">
            <a:avLst/>
          </a:prstGeom>
          <a:ln w="0">
            <a:noFill/>
          </a:ln>
        </p:spPr>
      </p:pic>
      <p:pic>
        <p:nvPicPr>
          <p:cNvPr id="301" name="Таблица 2" descr=""/>
          <p:cNvPicPr/>
          <p:nvPr/>
        </p:nvPicPr>
        <p:blipFill>
          <a:blip r:embed="rId2"/>
          <a:stretch/>
        </p:blipFill>
        <p:spPr>
          <a:xfrm>
            <a:off x="712800" y="712800"/>
            <a:ext cx="8145360" cy="345132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"/>
          <p:cNvSpPr/>
          <p:nvPr/>
        </p:nvSpPr>
        <p:spPr>
          <a:xfrm>
            <a:off x="1726560" y="214200"/>
            <a:ext cx="581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Что нового узнали о деньг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1424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42920" y="1071360"/>
            <a:ext cx="8572320" cy="192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Первыми деньгами служили животные - скот. Скотником назывался КАЗНАЧЕЙ, ХРАНИТЕЛЬ ДЕНЕГ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6" descr="http://im7-tub.mail.ru/i?id=60195841&amp;tov=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2040" y="2214720"/>
            <a:ext cx="3670200" cy="2571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7" name="TextBox 4"/>
          <p:cNvSpPr/>
          <p:nvPr/>
        </p:nvSpPr>
        <p:spPr>
          <a:xfrm>
            <a:off x="214200" y="5011560"/>
            <a:ext cx="864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Arial"/>
                <a:ea typeface="Arial"/>
              </a:rPr>
              <a:t>Слово «капитал» произошло от латинского caput - голова, счет же скота вели по голов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Первые деньги в других странах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35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итай, Япония – рис, чай, раковины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, Азия– раковины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ибет - грецкие орехи, шелк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Туземцы Америки – ткань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Африка – бусы, украшени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Меланезия,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овая Твинга – собачьи зубы, перья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4000680" y="628668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5"/>
          <p:cNvSpPr/>
          <p:nvPr/>
        </p:nvSpPr>
        <p:spPr>
          <a:xfrm>
            <a:off x="285840" y="5643720"/>
            <a:ext cx="82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Король Уганды приказал засеять поле бусами, но ему так и не удалось вырастить собственную моне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Calibri"/>
              </a:rPr>
              <a:t>Меховы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Деньгами служили и шкуры животных – песца, белки, соболя, куниц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Picture 8" descr="http://im4-tub.mail.ru/i?id=20401381&amp;tov=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57200" y="2643120"/>
            <a:ext cx="2786040" cy="1541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C:\D&amp;S\ЮРА\Мои документы\МАРИНА\КАРТИНКИ\животные\белкаE.jpg"/>
          <p:cNvPicPr/>
          <p:nvPr/>
        </p:nvPicPr>
        <p:blipFill>
          <a:blip r:embed="rId3"/>
          <a:stretch/>
        </p:blipFill>
        <p:spPr>
          <a:xfrm>
            <a:off x="214200" y="4429080"/>
            <a:ext cx="1860840" cy="22654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D&amp;S\ЮРА\Мои документы\МАРИНА\КАРТИНКИ\животные\куницаE.jpg"/>
          <p:cNvPicPr/>
          <p:nvPr/>
        </p:nvPicPr>
        <p:blipFill>
          <a:blip r:embed="rId4"/>
          <a:stretch/>
        </p:blipFill>
        <p:spPr>
          <a:xfrm>
            <a:off x="6286680" y="4500720"/>
            <a:ext cx="2657160" cy="21571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C:\D&amp;S\ЮРА\Мои документы\МАРИНА\КАРТИНКИ\животные\соболь.jpg"/>
          <p:cNvPicPr/>
          <p:nvPr/>
        </p:nvPicPr>
        <p:blipFill>
          <a:blip r:embed="rId5"/>
          <a:stretch/>
        </p:blipFill>
        <p:spPr>
          <a:xfrm>
            <a:off x="2643120" y="4500720"/>
            <a:ext cx="3238560" cy="22064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5" descr="C:\D&amp;S\ЮРА\Мои документы\МАРИНА\КАРТИНКИ\животные\песец2.jpg"/>
          <p:cNvPicPr/>
          <p:nvPr/>
        </p:nvPicPr>
        <p:blipFill>
          <a:blip r:embed="rId6"/>
          <a:stretch/>
        </p:blipFill>
        <p:spPr>
          <a:xfrm>
            <a:off x="5715000" y="2428920"/>
            <a:ext cx="2314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Ракушки Каур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лестящие, легкие, прочные, маленькие ракушки с Мальдивских островов в Индийском океане завоевали многие cтpaны Азии, Африки, Европы и с помощью арабских купцов попали на Русь, где им дали название «змеиная головка»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4" descr="http://im0-tub.mail.ru/i?id=55807633&amp;tov=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06760" y="3786120"/>
            <a:ext cx="3308400" cy="28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Рисунок 14" descr="ipage_1_2"/>
          <p:cNvPicPr/>
          <p:nvPr/>
        </p:nvPicPr>
        <p:blipFill>
          <a:blip r:embed="rId1"/>
          <a:stretch/>
        </p:blipFill>
        <p:spPr>
          <a:xfrm>
            <a:off x="6000840" y="1643040"/>
            <a:ext cx="1828800" cy="17859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f497d"/>
                </a:solidFill>
                <a:latin typeface="Arial"/>
                <a:ea typeface="Arial"/>
              </a:rPr>
              <a:t>Металлические деньги на Рус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0" y="1285560"/>
            <a:ext cx="868680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На Руси появились заграничные монеты - серебряные арабские дирхем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Затем появились свои металлические деньги. кусочки металла различной формы - ГРИВН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4"/>
          <p:cNvSpPr/>
          <p:nvPr/>
        </p:nvSpPr>
        <p:spPr>
          <a:xfrm>
            <a:off x="214200" y="5000760"/>
            <a:ext cx="8786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497d"/>
                </a:solidFill>
                <a:latin typeface="Arial"/>
                <a:ea typeface="Arial"/>
              </a:rPr>
              <a:t>Гривной раньше называли шею, загривок, а потом шейное украшение ожерелье. Когда появились монеты, то модницы стали делать из них ожерелья: и красиво, и кошелек, и сразу видно, какая ты богатая неве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0" y="2514240"/>
            <a:ext cx="822960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Гривна – серебряный слиток весом 170 – 200 г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4" descr="Платежный слиток гривна 'черниговского' типа. XII-XIII века. Увеличить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3689280"/>
            <a:ext cx="5867280" cy="3168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Новгородские рубли - слитки. XIV-XV века. Увеличить"/>
          <p:cNvPicPr/>
          <p:nvPr/>
        </p:nvPicPr>
        <p:blipFill>
          <a:blip r:embed="rId3"/>
          <a:stretch/>
        </p:blipFill>
        <p:spPr>
          <a:xfrm>
            <a:off x="1295280" y="0"/>
            <a:ext cx="7848720" cy="25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3-03-08T11:46:59Z</dcterms:modified>
  <cp:revision>46</cp:revision>
  <dc:subject/>
  <dc:title>ИСТОРИЯ  ДЕНЕЖНОЙ ЕДИНИЦЫ РОССИИ</dc:title>
</cp:coreProperties>
</file>